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30ab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"/>
          <p:cNvSpPr/>
          <p:nvPr/>
        </p:nvSpPr>
        <p:spPr>
          <a:xfrm>
            <a:off x="971640" y="6521400"/>
            <a:ext cx="70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Lucida Sans"/>
              </a:rPr>
              <a:t>IN72K – Tecnologías de información y rediseño de proc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826920" y="1916280"/>
            <a:ext cx="74901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Lucida Sans"/>
              </a:rPr>
              <a:t>IN72k</a:t>
            </a:r>
            <a:br>
              <a:rPr sz="7200"/>
            </a:br>
            <a:r>
              <a:rPr b="0" lang="es-ES" sz="2500" spc="-1" strike="noStrike">
                <a:solidFill>
                  <a:srgbClr val="000000"/>
                </a:solidFill>
                <a:latin typeface="Lucida Sans"/>
              </a:rPr>
              <a:t>Tecnologías</a:t>
            </a: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 de </a:t>
            </a:r>
            <a:r>
              <a:rPr b="0" lang="es-ES" sz="2500" spc="-1" strike="noStrike">
                <a:solidFill>
                  <a:srgbClr val="000000"/>
                </a:solidFill>
                <a:latin typeface="Lucida Sans"/>
              </a:rPr>
              <a:t>información</a:t>
            </a: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 y rediseño de </a:t>
            </a:r>
            <a:r>
              <a:rPr b="0" lang="es-ES" sz="2500" spc="-1" strike="noStrike">
                <a:solidFill>
                  <a:srgbClr val="000000"/>
                </a:solidFill>
                <a:latin typeface="Lucida Sans"/>
              </a:rPr>
              <a:t>procesos</a:t>
            </a:r>
            <a:br>
              <a:rPr sz="2500"/>
            </a:br>
            <a:br>
              <a:rPr sz="2500"/>
            </a:br>
            <a:r>
              <a:rPr b="0" lang="es-ES" sz="2500" spc="-1" strike="noStrike">
                <a:solidFill>
                  <a:srgbClr val="000000"/>
                </a:solidFill>
                <a:latin typeface="Lucida Sans"/>
              </a:rPr>
              <a:t>Auxiliar 1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0" y="6165360"/>
            <a:ext cx="9072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Lucida Sans"/>
              </a:rPr>
              <a:t>19 de Octubre de 2005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"/>
          <p:cNvSpPr/>
          <p:nvPr/>
        </p:nvSpPr>
        <p:spPr>
          <a:xfrm>
            <a:off x="5076720" y="515772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Lucida Sans"/>
              </a:rPr>
              <a:t>Prof. Aux.: Matías Pulido So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Lucida Sans"/>
              </a:rPr>
              <a:t>mpulido@dii.uchile.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44680" y="2938320"/>
            <a:ext cx="9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44360" y="765000"/>
          <a:ext cx="838440" cy="98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765000"/>
                    <a:ext cx="83844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0" y="836640"/>
          <a:ext cx="4454640" cy="914400"/>
        </p:xfrm>
        <a:graphic>
          <a:graphicData uri="http://schemas.openxmlformats.org/drawingml/2006/table">
            <a:tbl>
              <a:tblPr/>
              <a:tblGrid>
                <a:gridCol w="944640"/>
                <a:gridCol w="3510000"/>
              </a:tblGrid>
              <a:tr h="91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NewsGoth Lt BT"/>
                          <a:ea typeface="Times New Roman"/>
                        </a:rPr>
                        <a:t>FACULTAD DE CIENCIAS FÍSICAS Y 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ARTAMENTO 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ENIERÍA INDUST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íster en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ión de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a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Metodología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301760" y="1981080"/>
            <a:ext cx="6540480" cy="4114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067280" y="3933720"/>
            <a:ext cx="2736720" cy="71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Metodología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Pronóstico de la carga de trabaj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Objetiv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Determinar los parámetros de la CT estimada para el horizonte de planeación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¿Cuál será la tasa de llegada de transacciones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¿Cuál será el número promedio de trabajos en determinada ventana de tiempo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5445000"/>
            <a:ext cx="761760" cy="457200"/>
          </a:xfrm>
          <a:custGeom>
            <a:avLst/>
            <a:gdLst>
              <a:gd name="textAreaLeft" fmla="*/ 118800 w 761760"/>
              <a:gd name="textAreaRight" fmla="*/ 666720 w 7617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95640" y="5445000"/>
            <a:ext cx="762120" cy="457200"/>
          </a:xfrm>
          <a:custGeom>
            <a:avLst/>
            <a:gdLst>
              <a:gd name="textAreaLeft" fmla="*/ 118800 w 762120"/>
              <a:gd name="textAreaRight" fmla="*/ 667080 w 7621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60600" y="544500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Tahoma"/>
              </a:rPr>
              <a:t>Difíc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52640" y="5445000"/>
            <a:ext cx="14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Tahoma"/>
              </a:rPr>
              <a:t>¿Soluc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Metodología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Técnicas de pronóstic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Desde las más básicas 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Media móvil :  ft+1=(yt+yt-1+…+yt-n+1)/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Suavización Exponencial :  ft+1=ft + </a:t>
            </a:r>
            <a:r>
              <a:rPr b="0" lang="el-GR" sz="2000" spc="-1" strike="noStrike">
                <a:solidFill>
                  <a:srgbClr val="000000"/>
                </a:solidFill>
                <a:latin typeface="Lucida Sans"/>
                <a:ea typeface="Arial"/>
              </a:rPr>
              <a:t>α</a:t>
            </a:r>
            <a:r>
              <a:rPr b="0" lang="es-ES_tradnl" sz="2000" spc="-1" strike="noStrike">
                <a:solidFill>
                  <a:srgbClr val="000000"/>
                </a:solidFill>
                <a:latin typeface="Lucida Sans"/>
                <a:ea typeface="Arial"/>
              </a:rPr>
              <a:t>(yt-ft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Regresión : y = a + b1x1+ b2x2+….+bnx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… 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hasta las más complejas 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Data minin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Modelos econométrico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Modelos del área de marketing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Metodología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301760" y="1981080"/>
            <a:ext cx="6540480" cy="4114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067280" y="4292640"/>
            <a:ext cx="2736720" cy="71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Enfoques de predicción de desempeñ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El dimensionamiento de los procesos requieren del uso de modelos predictivos de desempeño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Los modelos analíticos son una buena alternativa para entregar soluciones rápidas de los trade off de los parámetros del sistema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Los modelos de simulación son buenos para probar distintos tipos de escenarios en forma dinámic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Se pueden también ocupar modelos híbrido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Enfoques de predicción de desempeñ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Cuál ocupar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Si es posible ocupar modelos analítico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Usar modelos analíticos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Para un primer análisi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Para problemas sencillo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Para reducir escenarios a simular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Usar simulación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Para problemas complicado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Para situaciones dinámica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odelo M/M/1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37720" cy="31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Llegada es un proceso de Poisson de tasa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 (llegadas/unidad de tiempo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Se forma una fila de espera con política de servicio FIF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El servicio es de un cliente a la vez con un tiempo distribuido exponencialmente con media 1/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El sistema se encuentra en estado estacionari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Medidas de desempeño M/M/1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2940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Corresponde a estimar relaciones entre las variables independientes 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) y tiempos medios de espera (W) y número de clientes en espera (L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Se asume que el sistema está en estacionari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428840" y="4638600"/>
                <a:ext cx="160812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ρ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087800" y="4778280"/>
                <a:ext cx="16797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μ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3337920" y="488484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7020000" y="4581360"/>
                <a:ext cx="11970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6143040" y="4956120"/>
            <a:ext cx="57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Medidas de desempeño M/M/2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49480" y="4917960"/>
                <a:ext cx="160812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813120" y="5056200"/>
                <a:ext cx="167976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μ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3031560" y="530064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588000" y="4869000"/>
                <a:ext cx="14083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5815800" y="5316480"/>
            <a:ext cx="57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37720" cy="31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Reglas de operación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Idénticas al caso M/M/1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A excepción del número de clientes atendiéndose (en este caso pueden ser 2 en paralelo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Modelo M/M/C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6764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Corresponde a llegadas de tipo Poisson 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), atención exponencial (1/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) y C servidores (ejecutivos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548080" y="3289320"/>
                <a:ext cx="432900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λ</m:t>
                                    </m:r>
                                  </m:num>
                                  <m:den>
                                    <m:r>
                                      <m:t xml:space="preserve">μ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λ</m:t>
                                    </m:r>
                                  </m:num>
                                  <m:den>
                                    <m:r>
                                      <m:t xml:space="preserve">μ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C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λ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</m:den>
                                </m:f>
                                <m:r>
                                  <m:t xml:space="preserve">Cμ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009800" y="4917960"/>
                <a:ext cx="384624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C</m:t>
                        </m:r>
                        <m:r>
                          <m:t xml:space="preserve">!</m:t>
                        </m:r>
                        <m:r>
                          <m:t xml:space="preserve">Cμ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Cμ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6300720" y="5013360"/>
                <a:ext cx="19447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λ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5282640" y="517212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Agenda 19 octubre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Planificación de capacida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Enfoques de predicción de desempeñ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Cas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pperplate30ab"/>
              </a:rPr>
              <a:t>Decisiones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Planificación de la capacidad es el proceso de </a:t>
            </a:r>
            <a:r>
              <a:rPr b="0" i="1" lang="es-CL" sz="2400" spc="-1" strike="noStrike">
                <a:solidFill>
                  <a:srgbClr val="000000"/>
                </a:solidFill>
                <a:latin typeface="Lucida Sans"/>
              </a:rPr>
              <a:t>predecir</a:t>
            </a: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 cuándo los niveles de servicio serán violados como función de la evolución de la </a:t>
            </a:r>
            <a:r>
              <a:rPr b="0" i="1" lang="es-CL" sz="2400" spc="-1" strike="noStrike">
                <a:solidFill>
                  <a:srgbClr val="000000"/>
                </a:solidFill>
                <a:latin typeface="Lucida Sans"/>
              </a:rPr>
              <a:t>carga de trabajo</a:t>
            </a: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, así como la </a:t>
            </a:r>
            <a:r>
              <a:rPr b="1" lang="es-CL" sz="2400" spc="-1" strike="noStrike">
                <a:solidFill>
                  <a:srgbClr val="000000"/>
                </a:solidFill>
                <a:latin typeface="Lucida Sans"/>
              </a:rPr>
              <a:t>determinación de la forma más efectiva</a:t>
            </a: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 de demorar dicha saturació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"/>
          <p:cNvSpPr/>
          <p:nvPr/>
        </p:nvSpPr>
        <p:spPr>
          <a:xfrm>
            <a:off x="1908000" y="4797360"/>
            <a:ext cx="762120" cy="457200"/>
          </a:xfrm>
          <a:custGeom>
            <a:avLst/>
            <a:gdLst>
              <a:gd name="textAreaLeft" fmla="*/ 118800 w 762120"/>
              <a:gd name="textAreaRight" fmla="*/ 667080 w 7621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320" y="4724280"/>
            <a:ext cx="488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cisión debe considerar trade off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e costos y nivel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Planificación de capacidad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4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Planificación de la capacidad es el proceso de </a:t>
            </a:r>
            <a:r>
              <a:rPr b="0" i="1" lang="es-CL" sz="2400" spc="-1" strike="noStrike">
                <a:solidFill>
                  <a:srgbClr val="000000"/>
                </a:solidFill>
                <a:latin typeface="Lucida Sans"/>
              </a:rPr>
              <a:t>predecir</a:t>
            </a: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 cuándo los niveles de servicio serán violados como función de la evolución de la </a:t>
            </a:r>
            <a:r>
              <a:rPr b="0" i="1" lang="es-CL" sz="2400" spc="-1" strike="noStrike">
                <a:solidFill>
                  <a:srgbClr val="000000"/>
                </a:solidFill>
                <a:latin typeface="Lucida Sans"/>
              </a:rPr>
              <a:t>carga de trabajo</a:t>
            </a: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, así como la determinación de la forma más efectiva de demorar dicha saturació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771640" y="4149720"/>
          <a:ext cx="4319640" cy="23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71640" y="4149720"/>
                    <a:ext cx="431964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6086520" y="5950080"/>
            <a:ext cx="1522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Númer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0360" y="5157720"/>
            <a:ext cx="1386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Nivel de serv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Importancia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Asegura coherencia entre estrategia y operacione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Enfocada en el cliente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Respaldo a decisiones estratégicas, tácticas y operacionale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Herramienta útil para evaluar alternativas en </a:t>
            </a:r>
            <a:r>
              <a:rPr b="0" i="1" lang="es-ES" sz="2400" spc="-1" strike="noStrike">
                <a:solidFill>
                  <a:srgbClr val="000000"/>
                </a:solidFill>
                <a:latin typeface="Lucida Sans"/>
              </a:rPr>
              <a:t>rediseño de procesos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Casos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Caso Banco de Chi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Procesos que comparten recursos computacionales, los que pueden críticos al momento de evaluar la capacidad, comunicación y capacidad de red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E-SEI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Procesos dotados principalmente por recursos humanos, donde el factor crítico es el dimensionamiento del personal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Metodología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301760" y="1981080"/>
            <a:ext cx="6540480" cy="4114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95640" y="2276640"/>
            <a:ext cx="2737080" cy="71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Metodología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Carga de Trabajo (workloa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Son todos los pedidos de procesamiento enviados en determinado período de tiempo, por los usuarios del sistema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Técnicas utilizada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Particionamiento en clases similar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Cálculo de parámetros de cada clas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(ej: intensidad de carga de trabajo, demanda de servicio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Metodología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301760" y="1981080"/>
            <a:ext cx="6540480" cy="4114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95640" y="2852640"/>
            <a:ext cx="2737080" cy="71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Metodología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Un modelo es una representación que imita la real carga de trabajo, bajo estudio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Deben ser 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 algn="just">
              <a:spcBef>
                <a:spcPts val="11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Representativ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 algn="just">
              <a:spcBef>
                <a:spcPts val="11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Compact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3429000"/>
            <a:ext cx="761760" cy="457200"/>
          </a:xfrm>
          <a:custGeom>
            <a:avLst/>
            <a:gdLst>
              <a:gd name="textAreaLeft" fmla="*/ 118800 w 761760"/>
              <a:gd name="textAreaRight" fmla="*/ 666720 w 7617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55360" y="342900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ahoma"/>
              </a:rPr>
              <a:t>TRADE 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7T19:24:10Z</dcterms:created>
  <dc:creator>Laura Bergells</dc:creator>
  <dc:description>Visit www.maniactive.com for Free PowerPoint Templates.</dc:description>
  <dc:language>en-US</dc:language>
  <cp:lastModifiedBy>Matías</cp:lastModifiedBy>
  <dcterms:modified xsi:type="dcterms:W3CDTF">2005-10-19T18:20:14Z</dcterms:modified>
  <cp:revision>310</cp:revision>
  <dc:subject/>
  <dc:title>Lead Follow-Up: Hot, Warm &amp; Cold  CRM Conference,  October 2001 </dc:title>
</cp:coreProperties>
</file>